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7B1-43D6-4414-9123-513910F3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62F-9C35-4482-BD80-0899B8C7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3F8-27A5-4E7D-8E55-AA94D98C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3AC-CB06-4195-94AA-607C9873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1A1-741F-4775-85C3-11B0A89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45A-7059-4AD6-B897-C32AB6F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998-495B-40D3-B421-02B9319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147-E568-46C2-B465-BD32A032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43C-7A33-4BF9-97C6-CCACDBE3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D8F-F8AD-4DC1-AFF8-187FA5F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52D-BC1E-4B61-9F68-E5A75368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41C-D500-48A4-A378-1418E10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085-BDDE-4B1D-BD67-FF0947BC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 of absolutism Spain in the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pain had developed an absolutist monarchy but by the 1590’s it was in dec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scal disorder, political incompetence, the lack of a strong middle class, population decline, intellectual isolation, and psychological malaise contributed to its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and English began to cut into Spain’s trade monopo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pain’s supply of silver began to decline leading to de-evaluation and bankrupt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Spain had only a tiny middle class – which had to face many obstacles to their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Aristocrats were extravagant and their rents drove the peasants from the 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Philip’s IV’s minister Olivares mistakenly thought that revival of war with the Dutch would solve Spain’s problems; war with France followed – all bringing disaster for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Treaty of the Pyrenees of 1659, which ended the French-Spanish wars, marked the end of Spain as a grea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The Treaty of the Pyren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of Spain’s past had been built on slavery and 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antes’s novel Don Quixote characterizes the impractical dreams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2:35:26Z</dcterms:created>
  <dc:creator>umsd</dc:creator>
  <dc:description/>
  <dc:language>en-US</dc:language>
  <cp:lastModifiedBy>umsd</cp:lastModifiedBy>
  <dcterms:modified xsi:type="dcterms:W3CDTF">2008-12-02T13:00:51Z</dcterms:modified>
  <cp:revision>3</cp:revision>
  <dc:subject/>
  <dc:title>The Decline of absolutism Spain in the 17th Century </dc:title>
</cp:coreProperties>
</file>